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34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0"/>
          </p:nvPr>
        </p:nvSpPr>
        <p:spPr>
          <a:xfrm>
            <a:off x="38811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811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D66C2-B732-483C-AC76-AA840D1A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3A624-8740-48B3-86AB-6FE3DC64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AED-3D6E-494D-B0FD-ACC4374D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68F-7956-4E78-A125-C9B9FEB2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83D-365C-4B71-90ED-57AE2510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40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5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40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72C-AA24-4D8C-AF0E-48EC5137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0960" y="650880"/>
            <a:ext cx="7570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637-5A94-469B-9DF4-053B1FB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53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140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15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53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140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64B6-BE27-4AB1-8973-173E04B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2AA-FB0F-440B-AD40-ADCECC4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0D0D-F466-49AD-B36E-3F2D430D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4BE-D560-4521-BB94-CFD17866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CDDB-6124-4AB3-A9E9-F31261E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B80-4A0D-4E15-B1A5-450563F9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0960" y="650880"/>
            <a:ext cx="7570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D74-0878-42A3-9115-507DC7B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1C5-5164-4ED5-8EDF-89B6BCB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EDA-FAC6-4DC3-9ABB-3F91B44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B45A-5668-43A7-A49B-F7FF8F8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095-C308-452E-B41E-6C3BE2C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613-6200-4186-A825-950FEAF0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53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9140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15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53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9140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A792-37E5-489A-834E-62C25481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2ADF-EB88-4F32-BA1B-357C149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8DD4C-8EA2-4AFA-9ABF-CD5381E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EDCF-FABB-4473-9713-9C00E80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6BB-2171-4471-B1D0-1570BAF1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CB87-3888-48C0-A1C8-C784206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6B0F-0E98-4EA3-84E9-93453F2E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0960" y="650880"/>
            <a:ext cx="7570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F1DD-5427-40E7-AA64-DB265322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F9A1-FFFC-434E-B80C-930567D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9D51-6066-494D-9155-AED9EA8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DAB1-C554-4A6B-8C76-8F7E564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DC30-17A3-44BF-B8CE-E0C1036C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8825-EA63-4865-97CC-87156170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5376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891400" y="195876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15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5376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891400" y="8691840"/>
            <a:ext cx="241668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BC9B-42A5-4204-8EB9-31A51C97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851-8991-4313-84BE-C21844B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0960" y="650880"/>
            <a:ext cx="7570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6A8-7EB0-4D80-8DB6-3D3904B2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3ED-D520-4056-B557-575B0F1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000" y="869184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53D-2EE4-4E9B-AF17-C7D70C6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576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000" y="1958760"/>
            <a:ext cx="3662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5760" y="8691840"/>
            <a:ext cx="7505640" cy="6148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7E9-D155-4525-9967-F0821BD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5C2F0-D749-4839-AD7D-141A5DFE68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44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2320" y="501480"/>
            <a:ext cx="78314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16120" y="1800360"/>
            <a:ext cx="7503840" cy="12888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555120" y="5854320"/>
            <a:ext cx="21243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6960" y="585432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424560" y="585432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3F5608-6DF5-4FB7-8CB8-94A680C807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0960" y="6508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15760" y="1958760"/>
            <a:ext cx="7505640" cy="128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992034-894D-4D9E-A6FE-1D90A2C7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008000" y="406440"/>
            <a:ext cx="69706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 Unicode MS"/>
              </a:rPr>
              <a:t>«Компьютер: друг или враг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47640" y="2303640"/>
            <a:ext cx="2592360" cy="1584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975280" y="2952720"/>
            <a:ext cx="2448000" cy="1655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 rot="20940000">
            <a:off x="374760" y="1530360"/>
            <a:ext cx="1704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700000">
            <a:off x="977400" y="4122360"/>
            <a:ext cx="2333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 rot="1260000">
            <a:off x="1547640" y="1296720"/>
            <a:ext cx="1889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 rot="1140000">
            <a:off x="1666440" y="4800600"/>
            <a:ext cx="167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771640" y="979560"/>
            <a:ext cx="34340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Компьютер мой-мой личный ми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И лучше не быва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Не надо мне идти к друзья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И ездить в гости к ма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Я в нем живу, пишу, твор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А время пролета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Он открывает мир больш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Я твёрдо это зна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Проходят дни, недели, годы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И с ужасом я понима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Что окунувшись в мир та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Arial"/>
                <a:ea typeface="Arial Unicode MS"/>
              </a:rPr>
              <a:t>Ведь что-то я теряю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 rot="20820000">
            <a:off x="5894280" y="1169640"/>
            <a:ext cx="215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Устал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 rot="1080000">
            <a:off x="5730840" y="2281320"/>
            <a:ext cx="292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Ухудшение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 rot="20700000">
            <a:off x="5983200" y="5098680"/>
            <a:ext cx="331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Агр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2170080" y="5472000"/>
            <a:ext cx="5102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 Unicode MS"/>
              </a:rPr>
              <a:t>Зависит только от нас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 rot="20520000">
            <a:off x="189000" y="4882680"/>
            <a:ext cx="18889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Учё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 rot="720000">
            <a:off x="5994000" y="4654440"/>
            <a:ext cx="1889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Изл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678720" y="1631880"/>
            <a:ext cx="1888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 Unicode MS"/>
              </a:rPr>
              <a:t>Нарушение ос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0:02Z</dcterms:created>
  <dc:creator>Холмогоры</dc:creator>
  <dc:description/>
  <dc:language>en-US</dc:language>
  <cp:lastModifiedBy>Кузьмина Светлана Игоревна</cp:lastModifiedBy>
  <dcterms:modified xsi:type="dcterms:W3CDTF">2019-05-30T13:15:28Z</dcterms:modified>
  <cp:revision>3</cp:revision>
  <dc:subject/>
  <dc:title>Схема аналитического библиографического описания статьи из периодического издания</dc:title>
</cp:coreProperties>
</file>